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225-550B-4419-A15C-7F7BBD31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00CE-A0EE-4551-89AB-8D079179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64CB-97E4-413F-801F-7D198262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51A-A7B3-481C-BCB6-68F6C836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46F-328C-48DC-AFC7-999CAB4C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B73-4047-4835-A5B1-47F2499F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CD5F-D9D0-4A79-9DDE-C52FF5DC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6CF-FCB6-4B37-890D-2EFA1F30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B6CF-3649-4A0F-897B-88B88CBE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3574-7DAD-4C30-9F7B-B87EB357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041-1C38-429C-B545-04B40C1F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EE73-234F-464F-9D14-6F5347FE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9C38-FE60-4DB3-8DB8-E1D589324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43000" y="1523880"/>
            <a:ext cx="7010280" cy="4496040"/>
            <a:chOff x="1143000" y="1523880"/>
            <a:chExt cx="7010280" cy="4496040"/>
          </a:xfrm>
        </p:grpSpPr>
        <p:sp>
          <p:nvSpPr>
            <p:cNvPr id="42" name=""/>
            <p:cNvSpPr/>
            <p:nvPr/>
          </p:nvSpPr>
          <p:spPr>
            <a:xfrm>
              <a:off x="1143000" y="1523880"/>
              <a:ext cx="7010280" cy="44960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80040" y="2411280"/>
              <a:ext cx="1889280" cy="2925720"/>
            </a:xfrm>
            <a:custGeom>
              <a:avLst/>
              <a:gdLst>
                <a:gd name="textAreaLeft" fmla="*/ 92160 w 1889280"/>
                <a:gd name="textAreaRight" fmla="*/ 1797120 w 1889280"/>
                <a:gd name="textAreaTop" fmla="*/ 92160 h 2925720"/>
                <a:gd name="textAreaBottom" fmla="*/ 2833560 h 2925720"/>
              </a:gdLst>
              <a:ahLst/>
              <a:rect l="textAreaLeft" t="textAreaTop" r="textAreaRight" b="textAreaBottom"/>
              <a:pathLst>
                <a:path w="21600" h="33447">
                  <a:moveTo>
                    <a:pt x="3600" y="0"/>
                  </a:moveTo>
                  <a:arcTo wR="3600" hR="3600" stAng="16200000" swAng="-5400000"/>
                  <a:lnTo>
                    <a:pt x="0" y="29847"/>
                  </a:lnTo>
                  <a:arcTo wR="3600" hR="3600" stAng="10800000" swAng="-5400000"/>
                  <a:lnTo>
                    <a:pt x="18000" y="334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12920" y="2679840"/>
              <a:ext cx="1969920" cy="3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12920" y="5318280"/>
              <a:ext cx="1969920" cy="3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12920" y="2916360"/>
              <a:ext cx="1969920" cy="3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" name=""/>
            <p:cNvCxnSpPr>
              <a:stCxn id="44" idx="2"/>
              <a:endCxn id="45" idx="2"/>
            </p:cNvCxnSpPr>
            <p:nvPr/>
          </p:nvCxnSpPr>
          <p:spPr>
            <a:xfrm>
              <a:off x="1312920" y="2877480"/>
              <a:ext cx="360" cy="263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" name=""/>
            <p:cNvCxnSpPr>
              <a:stCxn id="44" idx="6"/>
              <a:endCxn id="45" idx="6"/>
            </p:cNvCxnSpPr>
            <p:nvPr/>
          </p:nvCxnSpPr>
          <p:spPr>
            <a:xfrm>
              <a:off x="3282840" y="2877480"/>
              <a:ext cx="360" cy="263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" name=""/>
            <p:cNvSpPr/>
            <p:nvPr/>
          </p:nvSpPr>
          <p:spPr>
            <a:xfrm>
              <a:off x="1447920" y="2276640"/>
              <a:ext cx="1726920" cy="307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User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85800" y="3809880"/>
              <a:ext cx="1476360" cy="2764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Tracker Settin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58800" y="4259160"/>
              <a:ext cx="1478160" cy="4402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w Tabl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TrackedEcho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49" idx="2"/>
              <a:endCxn id="50" idx="0"/>
            </p:cNvCxnSpPr>
            <p:nvPr/>
          </p:nvCxnSpPr>
          <p:spPr>
            <a:xfrm>
              <a:off x="2311200" y="2583720"/>
              <a:ext cx="12960" cy="122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" name=""/>
            <p:cNvSpPr/>
            <p:nvPr/>
          </p:nvSpPr>
          <p:spPr>
            <a:xfrm>
              <a:off x="1805040" y="56800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Datab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51400" y="4316400"/>
              <a:ext cx="2135160" cy="307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Tracker Algorithm(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" name=""/>
            <p:cNvCxnSpPr>
              <a:stCxn id="54" idx="1"/>
              <a:endCxn id="51" idx="3"/>
            </p:cNvCxnSpPr>
            <p:nvPr/>
          </p:nvCxnSpPr>
          <p:spPr>
            <a:xfrm flipH="1">
              <a:off x="3036960" y="4469760"/>
              <a:ext cx="514800" cy="9720"/>
            </a:xfrm>
            <a:prstGeom prst="straightConnector1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57" idx="3"/>
              <a:endCxn id="54" idx="1"/>
            </p:cNvCxnSpPr>
            <p:nvPr/>
          </p:nvCxnSpPr>
          <p:spPr>
            <a:xfrm flipV="1">
              <a:off x="3036960" y="4469760"/>
              <a:ext cx="514800" cy="628920"/>
            </a:xfrm>
            <a:prstGeom prst="straightConnector1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</a:ln>
          </p:spPr>
        </p:cxnSp>
        <p:cxnSp>
          <p:nvCxnSpPr>
            <p:cNvPr id="58" name=""/>
            <p:cNvCxnSpPr>
              <a:stCxn id="50" idx="3"/>
              <a:endCxn id="54" idx="0"/>
            </p:cNvCxnSpPr>
            <p:nvPr/>
          </p:nvCxnSpPr>
          <p:spPr>
            <a:xfrm>
              <a:off x="3062160" y="3948120"/>
              <a:ext cx="1557000" cy="368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6243480" y="3992400"/>
              <a:ext cx="1590840" cy="12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311960" y="3992400"/>
              <a:ext cx="577800" cy="7081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243480" y="2568600"/>
              <a:ext cx="1517760" cy="1239480"/>
              <a:chOff x="6243480" y="2568600"/>
              <a:chExt cx="1517760" cy="1239480"/>
            </a:xfrm>
          </p:grpSpPr>
          <p:pic>
            <p:nvPicPr>
              <p:cNvPr id="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243480" y="2568600"/>
                <a:ext cx="1517760" cy="121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6288840" y="2614320"/>
                <a:ext cx="1002240" cy="119376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45720" y="3165480"/>
                <a:ext cx="501120" cy="64260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5" name=""/>
            <p:cNvCxnSpPr>
              <a:stCxn id="54" idx="3"/>
              <a:endCxn id="63" idx="2"/>
            </p:cNvCxnSpPr>
            <p:nvPr/>
          </p:nvCxnSpPr>
          <p:spPr>
            <a:xfrm flipV="1">
              <a:off x="5686560" y="3211200"/>
              <a:ext cx="602640" cy="1258920"/>
            </a:xfrm>
            <a:prstGeom prst="straightConnector1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>
              <a:stCxn id="54" idx="3"/>
              <a:endCxn id="64" idx="2"/>
            </p:cNvCxnSpPr>
            <p:nvPr/>
          </p:nvCxnSpPr>
          <p:spPr>
            <a:xfrm flipV="1">
              <a:off x="5686560" y="3486960"/>
              <a:ext cx="1559520" cy="983160"/>
            </a:xfrm>
            <a:prstGeom prst="straightConnector1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>
              <a:stCxn id="54" idx="3"/>
              <a:endCxn id="60" idx="2"/>
            </p:cNvCxnSpPr>
            <p:nvPr/>
          </p:nvCxnSpPr>
          <p:spPr>
            <a:xfrm flipV="1">
              <a:off x="5686560" y="4346640"/>
              <a:ext cx="1625760" cy="123480"/>
            </a:xfrm>
            <a:prstGeom prst="straightConnector1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68" name=""/>
            <p:cNvSpPr/>
            <p:nvPr/>
          </p:nvSpPr>
          <p:spPr>
            <a:xfrm>
              <a:off x="1312920" y="3154320"/>
              <a:ext cx="1969920" cy="3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27720" y="5337000"/>
              <a:ext cx="164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Main Displ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12920" y="5079960"/>
              <a:ext cx="1969920" cy="397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58800" y="4878360"/>
              <a:ext cx="1478160" cy="4402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w Tabl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Trac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66880" y="161460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Arial Unicode MS"/>
                </a:rPr>
                <a:t>Data Flow - High Level Over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3352680"/>
              <a:ext cx="1724040" cy="520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Signal Proces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(Sonar OCX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72" idx="2"/>
              <a:endCxn id="54" idx="0"/>
            </p:cNvCxnSpPr>
            <p:nvPr/>
          </p:nvCxnSpPr>
          <p:spPr>
            <a:xfrm>
              <a:off x="4616280" y="3872880"/>
              <a:ext cx="2880" cy="44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3754440" y="2590920"/>
              <a:ext cx="1724040" cy="307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Sonar P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" name=""/>
            <p:cNvCxnSpPr>
              <a:stCxn id="74" idx="2"/>
              <a:endCxn id="72" idx="0"/>
            </p:cNvCxnSpPr>
            <p:nvPr/>
          </p:nvCxnSpPr>
          <p:spPr>
            <a:xfrm>
              <a:off x="4616280" y="2898000"/>
              <a:ext cx="360" cy="455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6" name=""/>
            <p:cNvSpPr/>
            <p:nvPr/>
          </p:nvSpPr>
          <p:spPr>
            <a:xfrm>
              <a:off x="3657600" y="5029200"/>
              <a:ext cx="1905120" cy="307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Reports / 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"/>
            <p:cNvCxnSpPr>
              <a:stCxn id="54" idx="2"/>
              <a:endCxn id="76" idx="0"/>
            </p:cNvCxnSpPr>
            <p:nvPr/>
          </p:nvCxnSpPr>
          <p:spPr>
            <a:xfrm flipH="1">
              <a:off x="4610160" y="4623480"/>
              <a:ext cx="9000" cy="406080"/>
            </a:xfrm>
            <a:prstGeom prst="straightConnector1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17:29:03Z</dcterms:created>
  <dc:creator>robert</dc:creator>
  <dc:description/>
  <dc:language>en-US</dc:language>
  <cp:lastModifiedBy>robert</cp:lastModifiedBy>
  <dcterms:modified xsi:type="dcterms:W3CDTF">2002-08-16T20:42:29Z</dcterms:modified>
  <cp:revision>5</cp:revision>
  <dc:subject/>
  <dc:title>PowerPoint Presentation</dc:title>
</cp:coreProperties>
</file>